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0BC6-5B2C-4A69-857B-5DDCD865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C1C0-8BDD-4743-8AC5-ADC9B1C0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DB81-C3DA-4B1F-900A-FC6BB3320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590B-9466-472A-8368-E336CCB5B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E0DA-D7C4-4478-B25A-362F7C0C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D4EC-D520-4FF1-BA7A-1A46A1BC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7276-E73F-4071-AF9F-2683A0C7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EAE7-664F-4ACA-869C-6D4D49AC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41B6-BCA8-47C9-9387-50139DFC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8754-23A8-4F07-B330-5F8EAC16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D2D9-57D5-4E56-8CA6-3961E036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0612-431E-418A-B490-77FAB99C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EE46-BD42-4D07-B4BD-57CD677F7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 to your wikispace and sign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324480" y="1447920"/>
            <a:ext cx="533520" cy="3808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5867280" y="1828440"/>
            <a:ext cx="457200" cy="304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the username and password.  Click ‘Sign In.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2367" r="3255" b="7692"/>
          <a:stretch/>
        </p:blipFill>
        <p:spPr>
          <a:xfrm>
            <a:off x="152280" y="609480"/>
            <a:ext cx="8839440" cy="6162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00200" y="2209680"/>
            <a:ext cx="2743200" cy="1143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4343400" y="2286000"/>
            <a:ext cx="99072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et started editing click on ‘Edit This Pag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30120" y="704880"/>
            <a:ext cx="8204400" cy="6153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52480" y="1676520"/>
            <a:ext cx="1143000" cy="3808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2895480" y="1980720"/>
            <a:ext cx="609840" cy="228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now enter text like you would in any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31640" y="723960"/>
            <a:ext cx="8178840" cy="61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ing Tool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15705" t="17018" r="3285" b="70866"/>
          <a:stretch/>
        </p:blipFill>
        <p:spPr>
          <a:xfrm>
            <a:off x="0" y="609480"/>
            <a:ext cx="9144000" cy="1025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15236" t="19532" r="3743" b="53130"/>
          <a:stretch/>
        </p:blipFill>
        <p:spPr>
          <a:xfrm>
            <a:off x="0" y="4543560"/>
            <a:ext cx="9144000" cy="2314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388620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he size of the text by using the drop down me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1337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d, Italicize, Under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22096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numbered or bulleted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990720"/>
            <a:ext cx="1143000" cy="5331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85800" y="167652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990720"/>
            <a:ext cx="1523880" cy="5331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2971440" y="1600200"/>
            <a:ext cx="228600" cy="533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4724280"/>
            <a:ext cx="1676520" cy="2133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971800" y="571500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67480" y="990720"/>
            <a:ext cx="137160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2057400"/>
            <a:ext cx="23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sure to click ‘Save’ to save the changes to your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7543800" y="1676520"/>
            <a:ext cx="304920" cy="380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809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sert a link on your page click ‘Insert Link’ button (it looks like a globe with a papercli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15705" t="17018" r="3285" b="70866"/>
          <a:stretch/>
        </p:blipFill>
        <p:spPr>
          <a:xfrm>
            <a:off x="0" y="1066680"/>
            <a:ext cx="9144000" cy="102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rcRect l="17846" t="21531" r="16716" b="24080"/>
          <a:stretch/>
        </p:blipFill>
        <p:spPr>
          <a:xfrm>
            <a:off x="3276720" y="2438280"/>
            <a:ext cx="5867280" cy="3657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V="1">
            <a:off x="8153280" y="3352680"/>
            <a:ext cx="0" cy="479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43800" y="2971800"/>
            <a:ext cx="106668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95480" y="1066680"/>
            <a:ext cx="381240" cy="381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52680" y="1447920"/>
            <a:ext cx="533520" cy="5331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38280" y="4952880"/>
            <a:ext cx="8384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4495680"/>
            <a:ext cx="396252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342900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67080" y="3124080"/>
            <a:ext cx="266724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2286000"/>
            <a:ext cx="289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nter the text of the link (for example, “Click here” or the name of the webpag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4406760"/>
            <a:ext cx="243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lick on the button for ‘External Link.’ Paste  in the link of the web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96080" y="38098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lick ‘OK.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create an internal link (i.e. another page/section of your wiki, click on the Insert Link button  (it looks like a globe with a paperclip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15705" t="17018" r="3285" b="70866"/>
          <a:stretch/>
        </p:blipFill>
        <p:spPr>
          <a:xfrm>
            <a:off x="0" y="1066680"/>
            <a:ext cx="9144000" cy="1025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rcRect l="17846" t="21531" r="16716" b="24080"/>
          <a:stretch/>
        </p:blipFill>
        <p:spPr>
          <a:xfrm>
            <a:off x="3276720" y="2438280"/>
            <a:ext cx="5867280" cy="3657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flipV="1">
            <a:off x="8153280" y="3352680"/>
            <a:ext cx="0" cy="479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43800" y="2971800"/>
            <a:ext cx="106668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990720"/>
            <a:ext cx="380880" cy="380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1447920"/>
            <a:ext cx="533520" cy="5331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4952880"/>
            <a:ext cx="8384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4495680"/>
            <a:ext cx="396252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342900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3124080"/>
            <a:ext cx="266724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2362320"/>
            <a:ext cx="213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nter the text of the link (for example, “Resources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4191120"/>
            <a:ext cx="2438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lick on the button for ‘Wiki Link.’  Select “Enter a Page Name” and type the name of your new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96080" y="38098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lick ‘OK.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15705" t="17018" r="3285" b="70866"/>
          <a:stretch/>
        </p:blipFill>
        <p:spPr>
          <a:xfrm>
            <a:off x="0" y="1143000"/>
            <a:ext cx="9144000" cy="1025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dd a link to a document to your page (for example, an audio file) click on the Insert File button (it looks like a picture of a tre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1143000"/>
            <a:ext cx="15264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1600200"/>
            <a:ext cx="53316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rcRect l="52120" t="15256" r="3392" b="8474"/>
          <a:stretch/>
        </p:blipFill>
        <p:spPr>
          <a:xfrm>
            <a:off x="5257800" y="2133720"/>
            <a:ext cx="3081240" cy="3962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638680" y="4724280"/>
            <a:ext cx="2819520" cy="838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3048120"/>
            <a:ext cx="46483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‘Browse.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you locate the file you want to add, click ‘Upload.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file has uploaded double click on it to add it to the page (the new file will be highlight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156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If you are adding something that is not your original work please check what the copyright permissions 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4:13:13Z</dcterms:created>
  <dc:creator>Forman School</dc:creator>
  <dc:description/>
  <dc:language>en-US</dc:language>
  <cp:lastModifiedBy>Forman School</cp:lastModifiedBy>
  <dcterms:modified xsi:type="dcterms:W3CDTF">2009-03-30T21:32:43Z</dcterms:modified>
  <cp:revision>13</cp:revision>
  <dc:subject/>
  <dc:title>Setting up your homework page</dc:title>
</cp:coreProperties>
</file>